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C78-A372-4F58-9A79-2ABA5BAE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879-F6DE-436A-9E6C-A76CBD59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5D7-AC12-4559-9871-8CD7E8B0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1B5-222A-41EC-98DE-E3AE12EE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391-FC82-44C5-A56A-828B9AD0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C61-3870-47D7-8C0C-2E479578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607-0FB0-4C9C-8C9F-0F7DA225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556-F967-45DF-864A-9EE37507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4410-7840-41AB-9523-9A7BCD3D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D15-FD72-4B52-87E8-0F50EAD5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49AC-98E1-42F3-8B07-269498A2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B73-A320-4852-899C-1F470883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743200" y="647712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AC5C-6C3E-401A-A36A-A39A5CB22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" Target="slide30.xml"/><Relationship Id="rId4" Type="http://schemas.openxmlformats.org/officeDocument/2006/relationships/slide" Target="slide45.xml"/><Relationship Id="rId5" Type="http://schemas.openxmlformats.org/officeDocument/2006/relationships/slide" Target="slide60.xml"/><Relationship Id="rId6" Type="http://schemas.openxmlformats.org/officeDocument/2006/relationships/slide" Target="slide74.xml"/><Relationship Id="rId7" Type="http://schemas.openxmlformats.org/officeDocument/2006/relationships/slide" Target="slide89.xml"/><Relationship Id="rId8" Type="http://schemas.openxmlformats.org/officeDocument/2006/relationships/slide" Target="slide18.xml"/><Relationship Id="rId9" Type="http://schemas.openxmlformats.org/officeDocument/2006/relationships/slide" Target="slide33.xml"/><Relationship Id="rId10" Type="http://schemas.openxmlformats.org/officeDocument/2006/relationships/slide" Target="slide48.xml"/><Relationship Id="rId11" Type="http://schemas.openxmlformats.org/officeDocument/2006/relationships/slide" Target="slide63.xml"/><Relationship Id="rId12" Type="http://schemas.openxmlformats.org/officeDocument/2006/relationships/slide" Target="slide77.xml"/><Relationship Id="rId13" Type="http://schemas.openxmlformats.org/officeDocument/2006/relationships/slide" Target="slide92.xml"/><Relationship Id="rId14" Type="http://schemas.openxmlformats.org/officeDocument/2006/relationships/slide" Target="slide21.xml"/><Relationship Id="rId15" Type="http://schemas.openxmlformats.org/officeDocument/2006/relationships/slide" Target="slide36.xml"/><Relationship Id="rId16" Type="http://schemas.openxmlformats.org/officeDocument/2006/relationships/slide" Target="slide51.xml"/><Relationship Id="rId17" Type="http://schemas.openxmlformats.org/officeDocument/2006/relationships/slide" Target="slide66.xml"/><Relationship Id="rId18" Type="http://schemas.openxmlformats.org/officeDocument/2006/relationships/slide" Target="slide80.xml"/><Relationship Id="rId19" Type="http://schemas.openxmlformats.org/officeDocument/2006/relationships/slide" Target="slide95.xml"/><Relationship Id="rId20" Type="http://schemas.openxmlformats.org/officeDocument/2006/relationships/slide" Target="slide24.xml"/><Relationship Id="rId21" Type="http://schemas.openxmlformats.org/officeDocument/2006/relationships/slide" Target="slide39.xml"/><Relationship Id="rId22" Type="http://schemas.openxmlformats.org/officeDocument/2006/relationships/slide" Target="slide54.xml"/><Relationship Id="rId23" Type="http://schemas.openxmlformats.org/officeDocument/2006/relationships/slide" Target="slide69.xml"/><Relationship Id="rId24" Type="http://schemas.openxmlformats.org/officeDocument/2006/relationships/slide" Target="slide98.xml"/><Relationship Id="rId25" Type="http://schemas.openxmlformats.org/officeDocument/2006/relationships/slide" Target="slide27.xml"/><Relationship Id="rId26" Type="http://schemas.openxmlformats.org/officeDocument/2006/relationships/slide" Target="slide42.xml"/><Relationship Id="rId27" Type="http://schemas.openxmlformats.org/officeDocument/2006/relationships/slide" Target="slide57.xml"/><Relationship Id="rId28" Type="http://schemas.openxmlformats.org/officeDocument/2006/relationships/slide" Target="slide72.xml"/><Relationship Id="rId29" Type="http://schemas.openxmlformats.org/officeDocument/2006/relationships/slide" Target="slide86.xml"/><Relationship Id="rId30" Type="http://schemas.openxmlformats.org/officeDocument/2006/relationships/slide" Target="slide101.xml"/><Relationship Id="rId3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20640" y="1996920"/>
            <a:ext cx="137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9b04f"/>
                </a:solidFill>
                <a:latin typeface="Verdana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5960" y="2013120"/>
            <a:ext cx="137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9b04f"/>
                </a:solidFill>
                <a:latin typeface="Verdana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73440" y="2013120"/>
            <a:ext cx="137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9b04f"/>
                </a:solidFill>
                <a:latin typeface="Verdana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27360" y="2000160"/>
            <a:ext cx="137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9b04f"/>
                </a:solidFill>
                <a:latin typeface="Verdana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18080" y="2013120"/>
            <a:ext cx="137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9b04f"/>
                </a:solidFill>
                <a:latin typeface="Verdana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91080" y="2009880"/>
            <a:ext cx="137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9b04f"/>
                </a:solidFill>
                <a:latin typeface="Verdan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40400" y="2022480"/>
            <a:ext cx="137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9b04f"/>
                </a:solidFill>
                <a:latin typeface="Verdana"/>
              </a:rPr>
              <a:t>Q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59560" y="2044800"/>
            <a:ext cx="137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9b04f"/>
                </a:solidFill>
                <a:latin typeface="Verdan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914400" y="228240"/>
            <a:ext cx="685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ulti-Q Introduc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estion &amp; Answer Review Gam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igned for Use in the Classro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240080" y="243000"/>
            <a:ext cx="83844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88960" y="1981080"/>
            <a:ext cx="137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erdana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73360" y="1996920"/>
            <a:ext cx="137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erdana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7600" y="1996920"/>
            <a:ext cx="137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erdana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98920" y="1984320"/>
            <a:ext cx="137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10160" y="1996920"/>
            <a:ext cx="137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3160" y="1994040"/>
            <a:ext cx="137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2480" y="2006640"/>
            <a:ext cx="137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erdana"/>
              </a:rPr>
              <a:t>Q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51640" y="2028960"/>
            <a:ext cx="137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1219320"/>
            <a:ext cx="525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lcom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586728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717"/>
                </a:solidFill>
                <a:latin typeface="Berlin Sans FB"/>
              </a:rPr>
              <a:t>Skip </a:t>
            </a:r>
            <a:r>
              <a:rPr b="0" lang="en-US" sz="2000" spc="-1" strike="noStrike">
                <a:solidFill>
                  <a:srgbClr val="f69008"/>
                </a:solidFill>
                <a:latin typeface="Berlin Sans FB"/>
              </a:rPr>
              <a:t>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do you know abou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12912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07800"/>
                </a:solidFill>
                <a:latin typeface="Comic Sans MS"/>
              </a:rPr>
              <a:t>Plan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6:5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57200" y="1676520"/>
            <a:ext cx="82296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gas giant bulges at the equator because it is rotating so quickl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6   f o r   5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6419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6:5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Jupite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-838080" y="304920"/>
            <a:ext cx="838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Bonus Questio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B O N U S   Q U E S T I O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1981080"/>
            <a:ext cx="800100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ngratulations! </a:t>
            </a:r>
            <a:br>
              <a:rPr sz="4800"/>
            </a:br>
            <a:br>
              <a:rPr sz="1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 answer the Bonus Question correctly, your team receives </a:t>
            </a:r>
            <a:r>
              <a:rPr b="1" lang="en-US" sz="4000" spc="-1" strike="noStrike">
                <a:solidFill>
                  <a:srgbClr val="0cae08"/>
                </a:solidFill>
                <a:latin typeface="Arial"/>
              </a:rPr>
              <a:t>double the poi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assigned to this ques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6442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 THE BONUS QUESTION 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20574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" dur="1" fill="hold"/>
                                  <p:tgtEl>
                                    <p:spTgt spid="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-838080" y="304920"/>
            <a:ext cx="838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Directions for Last Questio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D I R E C T I O N 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1680" y="201132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am member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y consul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n the final questi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f this gam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6442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 THE FINAL QUESTION 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71680" y="2057400"/>
            <a:ext cx="8001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answe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rrec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 may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d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wagered amoun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 your current scor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28880" y="2011320"/>
            <a:ext cx="70866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answe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1" lang="en-US" sz="4000" spc="-1" strike="noStrike">
                <a:solidFill>
                  <a:srgbClr val="0cae08"/>
                </a:solidFill>
                <a:latin typeface="Arial"/>
              </a:rPr>
              <a:t>incorrec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 must </a:t>
            </a:r>
            <a:r>
              <a:rPr b="1" lang="en-US" sz="4000" spc="-1" strike="noStrike">
                <a:solidFill>
                  <a:srgbClr val="0cae08"/>
                </a:solidFill>
                <a:latin typeface="Arial"/>
              </a:rPr>
              <a:t>subtrac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wagered amoun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om your current sco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09480" y="2362320"/>
            <a:ext cx="7925040" cy="284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lease place your wag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he bar below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en you ar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ady to proce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562720" y="5943600"/>
            <a:ext cx="32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717"/>
                </a:solidFill>
                <a:latin typeface="Arial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Last Question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175248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lympus Mons is approximately this many times taller than Mount Evere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H E  F I N A L  Q U E S T I O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Last Answer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three times talle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ND THE G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16560" y="56437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717"/>
                </a:solidFill>
                <a:latin typeface="Arial"/>
              </a:rPr>
              <a:t>ADD OR SUBTRACT WAGERED A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Turn in team scor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523880" y="2590920"/>
            <a:ext cx="6096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Add up your team score and report it to your teac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H A N K S   F O R   P L A Y I N G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6419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ON’T FORGET TO STUDY &amp; REVIEW ON YOUR OWN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do you know abou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12912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07800"/>
                </a:solidFill>
                <a:latin typeface="Verdana"/>
              </a:rPr>
              <a:t>Plan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TOPIC 6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do you know abou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3129120"/>
            <a:ext cx="6096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07800"/>
                </a:solidFill>
                <a:latin typeface="Comic Sans MS"/>
              </a:rPr>
              <a:t>and more planet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1066680" y="304920"/>
            <a:ext cx="10666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MultiQ Choice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86668"/>
          <a:stretch/>
        </p:blipFill>
        <p:spPr>
          <a:xfrm>
            <a:off x="0" y="22320"/>
            <a:ext cx="91407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290520" y="228600"/>
          <a:ext cx="8693280" cy="6357960"/>
        </p:xfrm>
        <a:graphic>
          <a:graphicData uri="http://schemas.openxmlformats.org/drawingml/2006/table">
            <a:tbl>
              <a:tblPr/>
              <a:tblGrid>
                <a:gridCol w="1449360"/>
                <a:gridCol w="1447920"/>
                <a:gridCol w="1449360"/>
                <a:gridCol w="1449360"/>
                <a:gridCol w="1447920"/>
                <a:gridCol w="1449360"/>
              </a:tblGrid>
              <a:tr h="106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lar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79717"/>
                        </a:gs>
                        <a:gs pos="100000">
                          <a:srgbClr val="f8782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lar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79717"/>
                        </a:gs>
                        <a:gs pos="100000">
                          <a:srgbClr val="f8782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79717"/>
                        </a:gs>
                        <a:gs pos="100000">
                          <a:srgbClr val="f8782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79717"/>
                        </a:gs>
                        <a:gs pos="100000">
                          <a:srgbClr val="f8782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79717"/>
                        </a:gs>
                        <a:gs pos="100000">
                          <a:srgbClr val="f8782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d more Plan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79717"/>
                        </a:gs>
                        <a:gs pos="100000">
                          <a:srgbClr val="f8782a"/>
                        </a:gs>
                      </a:gsLst>
                      <a:lin ang="5400000"/>
                    </a:gradFill>
                  </a:tcPr>
                </a:tc>
              </a:tr>
              <a:tr h="1063440"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2" action="ppaction://hlinksldjump"/>
                        </a:rPr>
                        <a:t>1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3" action="ppaction://hlinksldjump"/>
                        </a:rPr>
                        <a:t>1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4" action="ppaction://hlinksldjump"/>
                        </a:rPr>
                        <a:t>1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5" action="ppaction://hlinksldjump"/>
                        </a:rPr>
                        <a:t>1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6" action="ppaction://hlinksldjump"/>
                        </a:rPr>
                        <a:t>1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7" action="ppaction://hlinksldjump"/>
                        </a:rPr>
                        <a:t>1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44720"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8" action="ppaction://hlinksldjump"/>
                        </a:rPr>
                        <a:t>2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9" action="ppaction://hlinksldjump"/>
                        </a:rPr>
                        <a:t>2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10" action="ppaction://hlinksldjump"/>
                        </a:rPr>
                        <a:t>2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11" action="ppaction://hlinksldjump"/>
                        </a:rPr>
                        <a:t>2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12" action="ppaction://hlinksldjump"/>
                        </a:rPr>
                        <a:t>2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13" action="ppaction://hlinksldjump"/>
                        </a:rPr>
                        <a:t>2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55880"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14" action="ppaction://hlinksldjump"/>
                        </a:rPr>
                        <a:t>3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15" action="ppaction://hlinksldjump"/>
                        </a:rPr>
                        <a:t>3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16" action="ppaction://hlinksldjump"/>
                        </a:rPr>
                        <a:t>3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17" action="ppaction://hlinksldjump"/>
                        </a:rPr>
                        <a:t>3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18" action="ppaction://hlinksldjump"/>
                        </a:rPr>
                        <a:t>3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19" action="ppaction://hlinksldjump"/>
                        </a:rPr>
                        <a:t>3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3440"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20" action="ppaction://hlinksldjump"/>
                        </a:rPr>
                        <a:t>4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21" action="ppaction://hlinksldjump"/>
                        </a:rPr>
                        <a:t>4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22" action="ppaction://hlinksldjump"/>
                        </a:rPr>
                        <a:t>4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23" action="ppaction://hlinksldjump"/>
                        </a:rPr>
                        <a:t>4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24" action="ppaction://hlinksldjump"/>
                        </a:rPr>
                        <a:t>4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5240"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25" action="ppaction://hlinksldjump"/>
                        </a:rPr>
                        <a:t>5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26" action="ppaction://hlinksldjump"/>
                        </a:rPr>
                        <a:t>5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27" action="ppaction://hlinksldjump"/>
                        </a:rPr>
                        <a:t>5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28" action="ppaction://hlinksldjump"/>
                        </a:rPr>
                        <a:t>5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29" action="ppaction://hlinksldjump"/>
                        </a:rPr>
                        <a:t>5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228600" rIns="2286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  <a:hlinkClick r:id="rId30" action="ppaction://hlinksldjump"/>
                        </a:rPr>
                        <a:t>5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28600" marR="2286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0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7620120" y="6629400"/>
            <a:ext cx="13716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NAL QUES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Whoops!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to return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1:1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057400"/>
            <a:ext cx="80010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se are found in a belt between Mars and Jupi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1   f o r    1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1:1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are asteroid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1:2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3623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teoroids become these when they reach a planet’s surfa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1   f o r   2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1:2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are meteorit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Game Rule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M u l t i – Q   R u l 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828800"/>
            <a:ext cx="7391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ints are collected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 a team;  however,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ch player must answer his/her question </a:t>
            </a:r>
            <a:br>
              <a:rPr sz="4000"/>
            </a:br>
            <a:r>
              <a:rPr b="1" lang="en-US" sz="4000" spc="-1" strike="noStrike">
                <a:solidFill>
                  <a:srgbClr val="0cae08"/>
                </a:solidFill>
                <a:latin typeface="Arial"/>
              </a:rPr>
              <a:t>without help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om teammat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442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RE RULES 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1:3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981080"/>
            <a:ext cx="79250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se are non-luminous celestial bodies orbiting the su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1   f o r   3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1:3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are planet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1:4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981080"/>
            <a:ext cx="7772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se balls of ice, dust, and gas orbit the su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1   f o r   4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1:4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are comet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1:5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362320"/>
            <a:ext cx="69343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se are eliptica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1   f o r   5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1:5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2860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are the planets’ orbit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Game Rule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M u l t i – Q   R u l 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13372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a question is answered </a:t>
            </a:r>
            <a:r>
              <a:rPr b="1" lang="en-US" sz="4000" spc="-1" strike="noStrike">
                <a:solidFill>
                  <a:srgbClr val="0cae08"/>
                </a:solidFill>
                <a:latin typeface="Arial"/>
              </a:rPr>
              <a:t>correctly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that team </a:t>
            </a:r>
            <a:r>
              <a:rPr b="1" lang="en-US" sz="4000" spc="-1" strike="noStrike">
                <a:solidFill>
                  <a:srgbClr val="0cae08"/>
                </a:solidFill>
                <a:latin typeface="Arial"/>
              </a:rPr>
              <a:t>add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those points to their team score.  The opposing team may now chose a ques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442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RE RULES 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2:1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1905120"/>
            <a:ext cx="739116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is located at the centre of our solar syst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2   f o r    1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2:1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the su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2:2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905120"/>
            <a:ext cx="76201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se are natural satellites that orbit a plane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2   f o r    2 0  p o i n t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2:2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are moon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2:3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2209680"/>
            <a:ext cx="62485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planets are named after thes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2   f o r   3 0  p o i n t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2:3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2860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are the Roman god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2:4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371600"/>
            <a:ext cx="769608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is the unit of measurement used to compare the distances of the planets from the su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2   f o r   4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Game Rule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M u l t i – Q   R u l 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213372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a question is answered </a:t>
            </a:r>
            <a:r>
              <a:rPr b="1" lang="en-US" sz="4000" spc="-1" strike="noStrike">
                <a:solidFill>
                  <a:srgbClr val="0cae08"/>
                </a:solidFill>
                <a:latin typeface="Arial"/>
              </a:rPr>
              <a:t>incorrectly, the team score does not chang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. 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opposing team may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w chose a ques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442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RE RULES 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2:4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22860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an Astronomical Uni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2:5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14479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riction from colliding with these causes meteors to burn when approaching the Eart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2   f o r   5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2:5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the atmospher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3:1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20574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is the fourth planet from the su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3   f o r   1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3:1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Mar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30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3:2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1752480"/>
            <a:ext cx="71629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planet has the most extreme temperature rang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3   f o r   2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3:2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Mercur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Game Rule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M u l t i – Q   R u l 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1480" y="1974960"/>
            <a:ext cx="7391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game does not support automatic scoring.  Please assign a scorekeeper for your team.  This person should </a:t>
            </a:r>
            <a:r>
              <a:rPr b="1" lang="en-US" sz="4000" spc="-1" strike="noStrike">
                <a:solidFill>
                  <a:srgbClr val="0cae08"/>
                </a:solidFill>
                <a:latin typeface="Arial"/>
              </a:rPr>
              <a:t>keep track of points for both team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442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ET READY TO START 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31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3:3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1600200"/>
            <a:ext cx="73152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planet has a huge red storm that has been raging for over 300 yea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3   f o r   3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3:3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Jupite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3:4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2362320"/>
            <a:ext cx="556236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planet’s largest moon is named “Titan.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3   f o r   4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3:4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Satur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35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3:5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1828800"/>
            <a:ext cx="79246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planet is rotating on its side (compared to the other planets.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3   f o r   5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6419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3:5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Uranu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hoose from the following topic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1474920" y="2119320"/>
            <a:ext cx="65260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 will choose questions from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following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x topic areas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42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VIEW TOPIC AREAS 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44920" y="142920"/>
            <a:ext cx="618840" cy="780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621240" y="414360"/>
            <a:ext cx="618840" cy="781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48320" y="533520"/>
            <a:ext cx="618840" cy="780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781680" y="685800"/>
            <a:ext cx="619200" cy="781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715000" y="144360"/>
            <a:ext cx="619200" cy="781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731960" y="636480"/>
            <a:ext cx="6192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4:1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1828800"/>
            <a:ext cx="75438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planet has a toxic, sulfuric acid environme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4   f o r   1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4:1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Venu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4:2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1981080"/>
            <a:ext cx="70102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is the hottest planet in our solar syst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4   f o r   2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4:2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Venu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4:3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"/>
          <p:cNvSpPr/>
          <p:nvPr/>
        </p:nvSpPr>
        <p:spPr>
          <a:xfrm>
            <a:off x="1371600" y="2362320"/>
            <a:ext cx="67816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is no longer classified as a plane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4   f o r   3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4:3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Plut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4:4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1828800"/>
            <a:ext cx="830592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 2010, this planet will make its first full trip around the sun since its discove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4   f o r   4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3129120"/>
            <a:ext cx="609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07800"/>
                </a:solidFill>
                <a:latin typeface="Comic Sans MS"/>
              </a:rPr>
              <a:t>Solar System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do you know abou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4:4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Neptun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4:5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1752480"/>
            <a:ext cx="81532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planet takes 365.24 Earth days to orbit the sun on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4   f o r   5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6419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4:5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Earth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5:1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990720" y="1752480"/>
            <a:ext cx="74674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planet is named after the Roman god of wa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5   f o r   1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5:1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Mar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5:2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914400" y="1752480"/>
            <a:ext cx="75438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spacecraft Cassini was sent to visit this plane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5   f o r   2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5:2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Satur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do you know abou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129120"/>
            <a:ext cx="609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07800"/>
                </a:solidFill>
                <a:latin typeface="Comic Sans MS"/>
              </a:rPr>
              <a:t>Solar Syst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5:3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2362320"/>
            <a:ext cx="5562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planet is the fifth from the su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5   f o r   3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5:3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Jupite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5:4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1600200"/>
            <a:ext cx="80773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se planets both have days that are longer than their yea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5   f o r   4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5:4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4920" y="22860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are Mercury and Venu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5:5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600200"/>
            <a:ext cx="83818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planet is home to the tallest mountain in the solar syst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5   f o r   5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6419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5:5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Mar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6:1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609480" y="1752480"/>
            <a:ext cx="8153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planet is named after the Roman goddess of love and beaut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6   f o r   1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do you know abou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312912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07800"/>
                </a:solidFill>
                <a:latin typeface="Verdana"/>
              </a:rPr>
              <a:t>Plan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6:1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Venu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6:2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" y="1523880"/>
            <a:ext cx="80010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ranus and Neptune appear blue because of this gas in their atmospher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6   f o r   2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6:2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methan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6:3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>
            <a:off x="1905120" y="2362320"/>
            <a:ext cx="5562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causes Mars to appear r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6   f o r   3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6:3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04920" y="22860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rust (or iron oxide)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915840" y="1558800"/>
            <a:ext cx="7394760" cy="435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609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>
            <a:off x="990720" y="1600200"/>
            <a:ext cx="7238880" cy="426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c98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79680" y="23130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Click here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o return to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the Multi-Q </a:t>
            </a:r>
            <a:br>
              <a:rPr sz="4400"/>
            </a:br>
            <a:r>
              <a:rPr b="0" lang="en-US" sz="4400" spc="-1" strike="noStrike">
                <a:solidFill>
                  <a:srgbClr val="cb7707"/>
                </a:solidFill>
                <a:latin typeface="Comic Sans MS"/>
              </a:rPr>
              <a:t>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4073400" y="317520"/>
            <a:ext cx="663840" cy="4539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6:40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>
            <a:off x="457200" y="1371600"/>
            <a:ext cx="82296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is planet would float in water if you could put it into a big bath tub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o p i c  6   f o r   4 0  p o i n t s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609480" y="304920"/>
            <a:ext cx="609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6:40 Answe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56052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 h e   c o r r e c t   a n s w e r   i 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Satur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PLAY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rId1" action="ppaction://hlinksldjump"/>
          </p:cNvPr>
          <p:cNvSpPr/>
          <p:nvPr/>
        </p:nvSpPr>
        <p:spPr>
          <a:xfrm>
            <a:off x="0" y="0"/>
            <a:ext cx="7696080" cy="6858000"/>
          </a:xfrm>
          <a:custGeom>
            <a:avLst/>
            <a:gdLst>
              <a:gd name="textAreaLeft" fmla="*/ 444240 w 7696080"/>
              <a:gd name="textAreaRight" fmla="*/ 7251840 w 76960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4239" h="21600">
                <a:moveTo>
                  <a:pt x="0" y="0"/>
                </a:moveTo>
                <a:lnTo>
                  <a:pt x="24239" y="0"/>
                </a:lnTo>
                <a:lnTo>
                  <a:pt x="24239" y="21600"/>
                </a:lnTo>
                <a:lnTo>
                  <a:pt x="0" y="21600"/>
                </a:lnTo>
                <a:close/>
              </a:path>
              <a:path fill="lightenLess" w="24239" h="21600">
                <a:moveTo>
                  <a:pt x="0" y="0"/>
                </a:moveTo>
                <a:lnTo>
                  <a:pt x="24239" y="0"/>
                </a:lnTo>
                <a:lnTo>
                  <a:pt x="22840" y="1400"/>
                </a:lnTo>
                <a:lnTo>
                  <a:pt x="1400" y="1400"/>
                </a:lnTo>
                <a:close/>
              </a:path>
              <a:path fill="darken" w="24239" h="21600">
                <a:moveTo>
                  <a:pt x="24239" y="0"/>
                </a:moveTo>
                <a:lnTo>
                  <a:pt x="24239" y="21600"/>
                </a:lnTo>
                <a:lnTo>
                  <a:pt x="22840" y="20200"/>
                </a:lnTo>
                <a:lnTo>
                  <a:pt x="22840" y="1400"/>
                </a:lnTo>
                <a:close/>
              </a:path>
              <a:path fill="darkenLess" w="24239" h="21600">
                <a:moveTo>
                  <a:pt x="24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40" y="20200"/>
                </a:lnTo>
                <a:close/>
              </a:path>
              <a:path fill="lighten" w="24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867800" y="5451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717"/>
                </a:solidFill>
                <a:latin typeface="Berlin Sans FB Demi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Sam Grogan</dc:creator>
  <dc:description/>
  <dc:language>en-US</dc:language>
  <cp:lastModifiedBy>maurice.savoie</cp:lastModifiedBy>
  <dcterms:modified xsi:type="dcterms:W3CDTF">2009-05-06T17:01:00Z</dcterms:modified>
  <cp:revision>107</cp:revision>
  <dc:subject/>
  <dc:title>Multi-Q: A Review Game</dc:title>
</cp:coreProperties>
</file>